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wmf" ContentType="image/x-wmf"/>
  <Override PartName="/ppt/media/image8.png" ContentType="image/png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28.wmf" ContentType="image/x-wmf"/>
  <Override PartName="/ppt/media/image27.jpeg" ContentType="image/jpeg"/>
  <Override PartName="/ppt/media/image10.png" ContentType="image/png"/>
  <Override PartName="/ppt/media/image30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1.wmf" ContentType="image/x-wmf"/>
  <Override PartName="/ppt/media/image7.png" ContentType="image/png"/>
  <Override PartName="/ppt/media/image1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14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D7B-0A12-43D2-AF37-49A410DD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A14-F4DC-4360-911E-63AD3D19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0E4-E340-430A-9D29-0514F7EF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EAF-3471-4211-989F-8EC1ACA9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BB2-D50E-46CE-98BA-39A1FBF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21D-05EF-4AA8-82BC-FA664CC0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937-BFC8-4256-8EED-B8F015A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AF5-7AE5-4045-A8DC-BFAB7146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64E-46C1-49A4-9EE7-C7E3D6DE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8F4-13A6-41B4-81B0-C1B3A2A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F4C-FDC4-41D4-995C-7C3CD0A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C13-8358-4657-81F8-4723B434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6B00-A6C9-4296-BCDC-BF6F1C8409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266688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c0000"/>
                </a:solidFill>
                <a:latin typeface="Arial"/>
                <a:ea typeface="Arial"/>
              </a:rPr>
              <a:t>Физиологија бубре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4573440" y="58672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Проф. др Сузана Пант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09480" y="358128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онална морфологија бубрег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убрежна циркулациј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ломерулска филтрациј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ија тубул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ивструјни механизам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ација излучивања воде и електролит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ација састава и запремине екстрацелуларне течности. Улога бубрега у регулацији рН вредности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514600" y="114300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Основне струковне студ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454560" y="141300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803760" y="1828800"/>
            <a:ext cx="1933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наставна ј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1333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Функционална грађа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гломерулске мемб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137160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ломерулска капиларна мембран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је слична мембрани осталих капилара с тим ш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ма три слој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ндотел капилара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фенестриран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базалну мембран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састављена од мреже колагена и протеогликанских филамената који с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наелектриса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лој епителних ћелија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имају процепе тзв. пукотинасте поре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су наелектрисан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4343400" y="990720"/>
            <a:ext cx="4572000" cy="4952880"/>
          </a:xfrm>
          <a:prstGeom prst="rect">
            <a:avLst/>
          </a:prstGeom>
          <a:noFill/>
          <a:ln w="2232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3"/>
          <p:cNvGrpSpPr/>
          <p:nvPr/>
        </p:nvGrpSpPr>
        <p:grpSpPr>
          <a:xfrm>
            <a:off x="4038480" y="762120"/>
            <a:ext cx="4919760" cy="5882760"/>
            <a:chOff x="4038480" y="762120"/>
            <a:chExt cx="4919760" cy="5882760"/>
          </a:xfrm>
        </p:grpSpPr>
        <p:grpSp>
          <p:nvGrpSpPr>
            <p:cNvPr id="78" name="Group 10"/>
            <p:cNvGrpSpPr/>
            <p:nvPr/>
          </p:nvGrpSpPr>
          <p:grpSpPr>
            <a:xfrm>
              <a:off x="4114440" y="838080"/>
              <a:ext cx="4843800" cy="5806800"/>
              <a:chOff x="4114440" y="838080"/>
              <a:chExt cx="4843800" cy="5806800"/>
            </a:xfrm>
          </p:grpSpPr>
          <p:pic>
            <p:nvPicPr>
              <p:cNvPr id="7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440" y="838080"/>
                <a:ext cx="4843800" cy="55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Rectangle 5"/>
              <p:cNvSpPr/>
              <p:nvPr/>
            </p:nvSpPr>
            <p:spPr>
              <a:xfrm>
                <a:off x="4471200" y="5943960"/>
                <a:ext cx="44208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000" spc="-1" strike="noStrike">
                    <a:solidFill>
                      <a:srgbClr val="000000"/>
                    </a:solidFill>
                    <a:latin typeface="Arial"/>
                  </a:rPr>
                  <a:t>Слика: </a:t>
                </a: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Структу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 </a:t>
                </a: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гломерула.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)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Мали правоугаоник у углу: п</a:t>
                </a:r>
                <a:r>
                  <a:rPr b="0" lang="sr-CS" sz="1000" spc="-1" strike="noStrike">
                    <a:solidFill>
                      <a:srgbClr val="000000"/>
                    </a:solidFill>
                    <a:latin typeface="Arial"/>
                  </a:rPr>
                  <a:t>ресек кроз васкуларни пол који показује капиларну петљу гломерулски капилари у Боумановој чахури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Г)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Увећање дела  гломерулске капиларне мембране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2" descr=""/>
            <p:cNvPicPr/>
            <p:nvPr/>
          </p:nvPicPr>
          <p:blipFill>
            <a:blip r:embed="rId2"/>
            <a:stretch/>
          </p:blipFill>
          <p:spPr>
            <a:xfrm>
              <a:off x="4038480" y="762120"/>
              <a:ext cx="2286000" cy="198108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честице (дијаметар пора гломерулске мембране ј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ко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честице (базална мембрана садржи негативно наелектрисане протеогликан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пител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ћелиј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 су такођ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наелектрисане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Албумини имају дијаметар од 6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m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али не пролазе гломерулску мембрану због тога што су негативно наелектрисан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астав гломерулског филтрата одговара саставу плазме без протеина (мање од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0.3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4224240" y="762120"/>
            <a:ext cx="4919760" cy="5882760"/>
            <a:chOff x="4224240" y="762120"/>
            <a:chExt cx="4919760" cy="5882760"/>
          </a:xfrm>
        </p:grpSpPr>
        <p:grpSp>
          <p:nvGrpSpPr>
            <p:cNvPr id="84" name="Group 10"/>
            <p:cNvGrpSpPr/>
            <p:nvPr/>
          </p:nvGrpSpPr>
          <p:grpSpPr>
            <a:xfrm>
              <a:off x="4300200" y="838080"/>
              <a:ext cx="4843800" cy="5806800"/>
              <a:chOff x="4300200" y="838080"/>
              <a:chExt cx="4843800" cy="5806800"/>
            </a:xfrm>
          </p:grpSpPr>
          <p:pic>
            <p:nvPicPr>
              <p:cNvPr id="85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0200" y="838080"/>
                <a:ext cx="4843800" cy="55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Rectangle 5"/>
              <p:cNvSpPr/>
              <p:nvPr/>
            </p:nvSpPr>
            <p:spPr>
              <a:xfrm>
                <a:off x="4656960" y="5943960"/>
                <a:ext cx="44208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000" spc="-1" strike="noStrike">
                    <a:solidFill>
                      <a:srgbClr val="000000"/>
                    </a:solidFill>
                    <a:latin typeface="Arial"/>
                  </a:rPr>
                  <a:t>Слика: </a:t>
                </a: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Структу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 </a:t>
                </a: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гломерула.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)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Мали правоугаоник у углу: п</a:t>
                </a:r>
                <a:r>
                  <a:rPr b="0" lang="sr-CS" sz="1000" spc="-1" strike="noStrike">
                    <a:solidFill>
                      <a:srgbClr val="000000"/>
                    </a:solidFill>
                    <a:latin typeface="Arial"/>
                  </a:rPr>
                  <a:t>ресек кроз васкуларни пол који показује капиларну петљу гломерулски капилари у Боумановој чахури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Г)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Увећање дела  гломерулске капиларне мембране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" name="Picture 2" descr=""/>
            <p:cNvPicPr/>
            <p:nvPr/>
          </p:nvPicPr>
          <p:blipFill>
            <a:blip r:embed="rId2"/>
            <a:stretch/>
          </p:blipFill>
          <p:spPr>
            <a:xfrm>
              <a:off x="4224240" y="762120"/>
              <a:ext cx="2286000" cy="198108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</p:grpSp>
      <p:sp>
        <p:nvSpPr>
          <p:cNvPr id="88" name="Rectangle 8"/>
          <p:cNvSpPr/>
          <p:nvPr/>
        </p:nvSpPr>
        <p:spPr>
          <a:xfrm>
            <a:off x="228600" y="6094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који утичу на пропуст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љив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 гломерулске мембра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татск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 у гломерул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м капилар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повећава филтраци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средња вредност гломерулског притиска износ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татск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 у Bowman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 капсули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смањује филтраци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око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о-осмотски притисак плазме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смањује филтраци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средња вредност око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mmHg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8 mmHg на почетку и 36 mmHg на крају гломерулских капилара због филтрирања 20% плазм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о-осмотски притисак у Bowman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 капсул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с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mmHg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ма филтрације протеина у гломерули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148360" y="1219320"/>
            <a:ext cx="399564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5720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 које утичу на филтрацију течности у гломерулима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441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лтрациони притисак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то-притисак који узрокује филтрацију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лтрациони коефицијент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5 ml/мин/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чина гломерулске филтрације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ml/мин (18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акција филтра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личина гломерулске филтрације : проток плазме кроз бубреге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 које утичу на филтрацију течности у гломерулима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148360" y="1219320"/>
            <a:ext cx="3995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1760" y="28195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Квантитативни односи тубулских процеса за поједине 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52280" y="228600"/>
            <a:ext cx="8839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c0000"/>
                </a:solidFill>
                <a:uFillTx/>
                <a:latin typeface="Times New Roman"/>
              </a:rPr>
              <a:t>Тубулска реапсорп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лтрација=брзина гломеру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 филтрације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лазм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апсорпција – селективан процес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86800" cy="32004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685800" y="22096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у нормалним, физиолошким условима износ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78.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/да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А. Трансцелуларни тран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тивни транспорти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) примарн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Nа,К-АТP-аза, секреција H јона (завршни дистални тубул))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) секундар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транспорт глукозе или аминокиселина са натријумом, контратранспорт H/Nа јона (проксимални тубули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сивни транспор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19320" y="228600"/>
            <a:ext cx="6778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c0000"/>
                </a:solidFill>
                <a:latin typeface="Arial"/>
              </a:rPr>
              <a:t>Путеви транспорта воде и електролита из лумена бубрежних тубула у интерстицијум и перитубуларне капиларе (реапсорпција):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396216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Парацелуларни транспорт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кроз просторе између 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Ултрафилтрација (масовни ток)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апсорпције кроз тубулске епителне ћелије у интерстицијумску течност вода и растворене супстанце се остатак пута транспортују кроз зидове перитубулских капилара у крв ултрафилтрацијом која је под контролом хидростатских и колоидно осмотских сила које делују на мембрану капила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5029200" cy="405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5257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убулски транспортни максимум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ек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пстанц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убулима може реапсорбоват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зависи од сатурације специфичних транспортних систем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438280"/>
            <a:ext cx="525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брежни п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г" за супстанце које имају тубул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ки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транспортни максимум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ниво у плазми на коме с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ви пут појављује у урин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центрација у филтрату ће бити изна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ог праг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419720"/>
            <a:ext cx="51055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ме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и максимум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7.77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mol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n)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 за глукоз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-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mg/100 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2.22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mol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n)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ско оптерећењ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: 12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.94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mol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80988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517480" y="30492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РАНСПОРТНИ 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а 2/3 укупне количине воде и електрол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а Na, Cl, бикарбоната, К, в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а ресорпција глукозе и аминокиселина (котранспор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H јона (секундарни активни транспорт – контратранспорт са 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органских киселина и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а апсорпција в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446360" cy="4495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2042280" y="3808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проксималног туб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активног транспо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цендентни део танког сегмента Хенлеове петље је високопермеабилан за в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цендентни део танког сегмента Хенлеове је непермеабилан за в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5029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990720" y="6094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танког сегмента (десцендентног и асцендентног) Хенл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 петљ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А АНАТОМИЈ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 МОРФОЛОГИЈА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БУБРЕ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238880" y="44956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914400" y="1752480"/>
            <a:ext cx="7675560" cy="4573800"/>
            <a:chOff x="914400" y="1752480"/>
            <a:chExt cx="7675560" cy="4573800"/>
          </a:xfrm>
        </p:grpSpPr>
        <p:pic>
          <p:nvPicPr>
            <p:cNvPr id="52" name="Group 8" descr=""/>
            <p:cNvPicPr/>
            <p:nvPr/>
          </p:nvPicPr>
          <p:blipFill>
            <a:blip r:embed="rId1"/>
            <a:stretch/>
          </p:blipFill>
          <p:spPr>
            <a:xfrm>
              <a:off x="914400" y="1752480"/>
              <a:ext cx="767556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9"/>
            <p:cNvSpPr/>
            <p:nvPr/>
          </p:nvSpPr>
          <p:spPr>
            <a:xfrm>
              <a:off x="7239960" y="4568400"/>
              <a:ext cx="816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јвећ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то је посредовано 1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2-Cl, 1 K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ранспорт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белом асцендентном краку постоји и значајна парацелуларна реапсорпција катјона: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ели асцендентни крак ј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од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ска течност постаје веома разређена у свом току према дисталном тубулу.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ј за механизме који контролишу концент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и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4191120" cy="5029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1430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дебелог сегмента Хенл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 петљ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352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лни тубул има д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а де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 дистални тубул (дилуциони сегмен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и дистални тубул и кортикални сабирни канал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дилуционог сегмен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 функције као дебели сегмент Хенл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 петље (активни транспор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К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пропуст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од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648320" y="914400"/>
            <a:ext cx="4495680" cy="5791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685800" y="53352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истални туб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4419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завршног дисталног тубу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 непропус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уре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 ресорпциј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 секреција К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лавним ћелијам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ог дисталног тубул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начај у контроли концентрације ових јон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достеро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имулиш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K-ATP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не пумп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(примарни транспорт – интеркалатне ћелије), концентрисање до 1000x – значај у контроли ацидобазне равнотеж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 непропус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оду бе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 присуств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је пропу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49568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3733560"/>
            <a:ext cx="2438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Транспорт воде и електролита из лумена бубрежних тубула у интерстицијум и перитубулске капиларе (силе које детерминишу обим враћања у кр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04920" y="304920"/>
            <a:ext cx="8534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c0000"/>
                </a:solidFill>
                <a:uFillTx/>
                <a:latin typeface="Times New Roman"/>
              </a:rPr>
              <a:t>Регулација тубулске реапсорпције</a:t>
            </a:r>
            <a:r>
              <a:rPr b="0" lang="sr-CS" sz="3200" spc="-1" strike="noStrike">
                <a:solidFill>
                  <a:srgbClr val="6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у нормалним, физиолошким условима износи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178.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/да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омерулотубулска равнотеж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пособност тубула да повећају брзину реапсорпције у одговору на повећање тубулског оптерећењ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к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л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итубулских капилара и бубрежне интерстицијумске т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о што су алдостерон, ADH, ангиотензин II, атријумски натриуретски пептид, регулишу тубулску реапсорпцију воде и електрол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595296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533520" y="4191120"/>
          <a:ext cx="28954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91120"/>
                    <a:ext cx="28954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3962520" y="4495680"/>
            <a:ext cx="4952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s (ml/min) - клире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mg/ml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концентрација супстанце у мокраћ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V (ml/min) - излучена мокраћ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у минут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mg/ml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концентрација супстанце у плазм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8600" y="100116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брежни клиренс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 - clear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истити) је запремина плазме која се потпуно очисти од неке супстанце бубрезима у јединици времен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ml/min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иренс методе се могу користити за процену бубрежне функције. Израчунавањем клиренса одређених супстанци може се проценити бубрежни проток крви, величина гломерулске филтрације, као и тубулске реапсорпције или секре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иренс плазме за неку супстанцу израчунава се по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895480" y="304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БУБРЕЖНИ КЛИРЕНСИ</a:t>
            </a:r>
            <a:r>
              <a:rPr b="0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228600" y="121932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оцену </a:t>
            </a:r>
            <a:r>
              <a:rPr b="0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еличине гломерулске филтраци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клиренс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ули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895480" y="304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БУБРЕЖНИ КЛИРЕНСИ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4089240" cy="4419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228600" y="243828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 вредност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**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ушкарце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♂ :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125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е ♀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11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52280" y="601992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вредности клиренса 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гле упоређивати, сви клиренси се обрачунавају на телесну површ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52280" y="4419720"/>
            <a:ext cx="807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пстанца чији се клиренс одређује, мора да испуни следеће услов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није токсич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се не везује за протеине плазм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се не метаболише у бубрезима и другим тки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не утиче на функцију бубрег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се њена концентрација може прецизно мерити у плазми и у ур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1143000" y="990720"/>
            <a:ext cx="67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3352680" cy="4733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2895480" y="685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БУБРЕЖНИ КЛИРЕНСИ</a:t>
            </a:r>
            <a:r>
              <a:rPr b="0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28600" y="129528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i="1" lang="ru-RU" sz="2000" spc="-1" strike="noStrike">
                <a:solidFill>
                  <a:srgbClr val="cc0000"/>
                </a:solidFill>
                <a:latin typeface="Times New Roman"/>
              </a:rPr>
              <a:t>одређивање </a:t>
            </a:r>
            <a:r>
              <a:rPr b="0" i="1" lang="sr-CS" sz="2000" spc="-1" strike="noStrike">
                <a:solidFill>
                  <a:srgbClr val="cc0000"/>
                </a:solidFill>
                <a:latin typeface="Times New Roman"/>
              </a:rPr>
              <a:t>протока плазме и крви кроз бубрег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клиренс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парааминохипурне кисели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A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04920" y="4800600"/>
            <a:ext cx="5333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Физиолошке вредности бубрежног проток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убрежног проток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лазм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RPF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625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убрежног проток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рв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RBF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1200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28600" y="2362320"/>
            <a:ext cx="5867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клиренс неке супстанце могао бити мера бубрежног протока плазме, а тиме и крви, потребно је да се та супстанца потпуно уклони из плазме док крв пролази кроз бубреге и да се појави у урину. На пример, бубрези „очисте” плазму од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H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ском филтрацијом (20%) и тубулском секрецијом (80%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лиренса PAH може се израчунати бубрежни проток плазме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F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ако што се добијена вредност подели са 0,9 (90%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из RPF и познате вредност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крита, може се израчунати и бубрежни проток крви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F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40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пцију електролита која почиње у дебелом сегменту асцендентног крака Хенлејеве петље не прати реапсорпција воде (филтрат се дилуи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у крви нем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вршни дистални тубул и кортикални сабирни каналићи остају непропустни за воду (филтрат се и даље дилуира због реапсорпције електроли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ује се разређена мокра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96908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685800" y="914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БУБРЕЖНИ МЕХАНИЗАМ ЗА ИЗЛУЧИВАЊЕ РАЗРЕЂЕНЕ МОКРА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713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600" spc="-1" strike="noStrike">
                <a:solidFill>
                  <a:srgbClr val="6c0000"/>
                </a:solidFill>
                <a:latin typeface="Times New Roman"/>
              </a:rPr>
              <a:t>Бубрежни механизми за излучивање концентрисане мокраће -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противструјни механизам</a:t>
            </a:r>
            <a:r>
              <a:rPr b="1" lang="sr-Latn-C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c0000"/>
                </a:solidFill>
                <a:latin typeface="Times New Roman"/>
              </a:rPr>
              <a:t>             </a:t>
            </a:r>
            <a:r>
              <a:rPr b="1" lang="sr-Latn-CS" sz="2000" spc="-1" strike="noStrike">
                <a:solidFill>
                  <a:srgbClr val="6c0000"/>
                </a:solidFill>
                <a:latin typeface="Times New Roman"/>
              </a:rPr>
              <a:t>(одвија се у медули бубрега уз учешће јукстамедуларних нефрона и vasa recta-е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sr-CS" sz="2000" spc="-1" strike="noStrike">
                <a:solidFill>
                  <a:srgbClr val="f72e0d"/>
                </a:solidFill>
                <a:latin typeface="Calibri"/>
              </a:rPr>
              <a:t>ПРОТИВСТРУЈНИ УМНОЖИВ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2e0d"/>
                </a:solidFill>
                <a:latin typeface="Calibri"/>
              </a:rPr>
              <a:t>                                      </a:t>
            </a:r>
            <a:r>
              <a:rPr b="1" lang="sr-CS" sz="2000" spc="-1" strike="noStrike">
                <a:solidFill>
                  <a:srgbClr val="f72e0d"/>
                </a:solidFill>
                <a:latin typeface="Calibri"/>
              </a:rPr>
              <a:t>ПРОТИВСТРУЈНИ ИЗМЕЊИВ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Стварањ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хиперосмоларн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у медуларном интерстицијум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Повећање пропустљивости за воду епителних ћелија завршног дисталног тубула, кортикалних и медуларних сабирних каналића под дејством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3. Задржавање вишка електролита у медуларном интерстицијуму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противструјни измењивачк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механизам у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обавезна запремина мок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: 0.5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ит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133720" y="2133720"/>
            <a:ext cx="4419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28600" y="129492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Стварање хиперосмоларности у медуларном интерстицијум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активни транспорт јона из тубула у интерстицијум у дебелом сегменту усходног кра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енлеове петљ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и дилуционом сегменту дисталног тубула (непропустни за воду) -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противструјни умножив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активни транспорт јона из тубула у интерстицијум у сабирним цев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пасивна дифузиј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уре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из сабирних цеви у интерстицију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33520" y="228600"/>
            <a:ext cx="807696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c0000"/>
                </a:solidFill>
                <a:latin typeface="Times New Roman"/>
              </a:rPr>
              <a:t>ПРОТИВСТРУЈНИ МЕХАНИЗ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c0000"/>
                </a:solidFill>
                <a:latin typeface="Times New Roman"/>
              </a:rPr>
              <a:t>ПРОТИВСТРУЈНИ УМНОЖИВ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Механизам за додатно увећање осмоларности медуларног интерсти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515000" cy="358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228600" y="1295280"/>
            <a:ext cx="304920" cy="304920"/>
          </a:xfrm>
          <a:prstGeom prst="rect">
            <a:avLst/>
          </a:prstGeom>
          <a:noFill/>
          <a:ln w="1260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3690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  <a:ea typeface="Arial"/>
              </a:rPr>
              <a:t>Функције бубре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лучивање највећ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ла крајњих продуката метабол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запремине и састава телесних течности (осмолалности телесних течности и концентрације електроли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ацидо-базне равноте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артеријског прит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хормона, метаболизам и екскре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уконеоген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937040" cy="512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4321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Повећање пропустљивости за воду епителних ћелија завршног дисталног тубула, кортикалних и медуларних сабирних каналића под дејством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при високим концентрацијам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осмоларност урина се готово изједначава са осмоларношћу интерстицијума медуле ~ 1200 mOsm/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Механизам повећања концентрациј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уре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у мокраћи и медуларном интерстицијум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реа доприноси 40% хиперосмоларности бубрежног медуларног интерстицијума и концентрисању мокраћ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4400640" y="404640"/>
            <a:ext cx="4743360" cy="3926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4716360" y="4724280"/>
            <a:ext cx="4292640" cy="13226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304920" y="609480"/>
            <a:ext cx="304560" cy="304920"/>
          </a:xfrm>
          <a:prstGeom prst="rect">
            <a:avLst/>
          </a:prstGeom>
          <a:noFill/>
          <a:ln w="1260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04920" y="3962520"/>
            <a:ext cx="304560" cy="304560"/>
          </a:xfrm>
          <a:prstGeom prst="rect">
            <a:avLst/>
          </a:prstGeom>
          <a:noFill/>
          <a:ln w="1260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4716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су облик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цеви, веома су пропустни, имају мали проток крви (1-2% укупног протока крви кроз бубрег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плазма која протиче кроз нисходни крак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постаје хиперос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с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због изласка воде у хиперос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ск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интерстицијум и уласка јона из медуларног интерстицију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плаз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која протиче кроз усходни крак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с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смањује осмоларност због изласка јона у хипоос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ск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интерстицијум и уласка воде 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ње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крв коју одвод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односи јако мало јона који остају концентрисани у медуларном интерстицијум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на тај нач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 испирање хиперосмотске меду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6027840"/>
            <a:ext cx="4572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ка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ункционисањ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sa rec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e као противструјног измењивача у бубрегу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 и уреа дифундују из узлазног крака крвног суда у силазни крак, док вода дифундује из силазног у узлазни крак васкуларне петљ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slika 37-16"/>
          <p:cNvPicPr/>
          <p:nvPr/>
        </p:nvPicPr>
        <p:blipFill>
          <a:blip r:embed="rId1"/>
          <a:stretch/>
        </p:blipFill>
        <p:spPr>
          <a:xfrm>
            <a:off x="4876920" y="1752480"/>
            <a:ext cx="3398760" cy="4343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533520" y="228600"/>
            <a:ext cx="8076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c0000"/>
                </a:solidFill>
                <a:latin typeface="Times New Roman"/>
              </a:rPr>
              <a:t>ПРОТИВСТРУЈНИ МЕХАНИЗ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c0000"/>
                </a:solidFill>
                <a:latin typeface="Times New Roman"/>
              </a:rPr>
              <a:t>ПРОТИВСТРУЈНИ </a:t>
            </a:r>
            <a:r>
              <a:rPr b="1" lang="en-US" sz="2400" spc="-1" strike="noStrike">
                <a:solidFill>
                  <a:srgbClr val="6c0000"/>
                </a:solidFill>
                <a:latin typeface="Times New Roman"/>
              </a:rPr>
              <a:t>ИЗМЕЊИВ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Механизам за задржавање вишка електролита у медуларном интерстицију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значај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7924680" y="1523880"/>
            <a:ext cx="1067040" cy="145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c0000"/>
                </a:solidFill>
                <a:latin typeface="Arial"/>
              </a:rPr>
              <a:t>РЕГУЛАЦИЈА ИЗЛУЧИВАЊА ВОДЕ И Е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" y="1676520"/>
            <a:ext cx="8686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циј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ивањ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и електролита представља једну од основних функција бубрега и у циљу одржавања хомеостазе организма неопходно је да се излучивање воде и електролита подешава тако да прати величину уноса ових супстанци у организ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јзаступљенија осмотски активна честица екстрацелуларне течности и сви механизми који регулишу његову количину екстрацелуларно, регулишу и запремину екстрацелуларне те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Контрола излучивања воде и натријума механизм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ПРИТИСАК-НАТРИУ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негативне повратне спреге бубрези-телесна течност, који спречава нагомилавање воде и соли у телу. Први ефекат 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 унос воде и со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већање запремине  ЕЦТ а тиме и крви. То доводи до повећања артеријског притиска, повећања хидростатског притиска у гломерулским капиларима и повећа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F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ледица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излучивања мокраћ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де и натрију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мањење запремина ЕЦТ, а тиме и артеријски притисак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304920" y="-83160"/>
            <a:ext cx="883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РЕГУЛАЦИЈА САСТАВА И ЗАПРЕМИНЕ ЕКСТРАЦЕЛУЛАРНЕ ТЕЧНОСТИ (ЕЦ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O</a:t>
            </a:r>
            <a:r>
              <a:rPr b="1" lang="sr-C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сморецептор-</a:t>
            </a:r>
            <a:r>
              <a:rPr b="1" lang="en-U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антидиуретски хормон (ADH</a:t>
            </a:r>
            <a:r>
              <a:rPr b="1" lang="sr-C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) систем повратне спреге   </a:t>
            </a: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и    механизам жеђ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52280" y="1981080"/>
            <a:ext cx="5334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мулацију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циј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тидиуретског хормон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вазопресина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урохипофиз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зрокује повећана осмолалност ЕЦТ (активирају се осморецептори у хипоталамусу) и снижен артеријски притисак и смањена запремина крви (реагују рецептори у луку аорте и каротидним синусима, као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цептори ниског притиска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228600" y="411480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десно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во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му детектују осморецептори, секретује с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иуретски хормо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урохипофизе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пропустљивост за воду дисталних тубула (завршни део), сабирни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а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ића у бубрезима. То доводи д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бције во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убрежних тубула. Последица је излучивање смањене запремине концентроване мокраћ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8673120" y="1054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5410080" y="1704960"/>
            <a:ext cx="3733920" cy="5153040"/>
            <a:chOff x="5410080" y="1704960"/>
            <a:chExt cx="3733920" cy="5153040"/>
          </a:xfrm>
        </p:grpSpPr>
        <p:grpSp>
          <p:nvGrpSpPr>
            <p:cNvPr id="171" name="Group 29"/>
            <p:cNvGrpSpPr/>
            <p:nvPr/>
          </p:nvGrpSpPr>
          <p:grpSpPr>
            <a:xfrm>
              <a:off x="5410080" y="1704960"/>
              <a:ext cx="3733920" cy="5153040"/>
              <a:chOff x="5410080" y="1704960"/>
              <a:chExt cx="3733920" cy="5153040"/>
            </a:xfrm>
          </p:grpSpPr>
          <p:grpSp>
            <p:nvGrpSpPr>
              <p:cNvPr id="172" name="Group 28"/>
              <p:cNvGrpSpPr/>
              <p:nvPr/>
            </p:nvGrpSpPr>
            <p:grpSpPr>
              <a:xfrm>
                <a:off x="5410080" y="1704960"/>
                <a:ext cx="3733920" cy="5153040"/>
                <a:chOff x="5410080" y="1704960"/>
                <a:chExt cx="3733920" cy="5153040"/>
              </a:xfrm>
            </p:grpSpPr>
            <p:grpSp>
              <p:nvGrpSpPr>
                <p:cNvPr id="173" name="Group 27"/>
                <p:cNvGrpSpPr/>
                <p:nvPr/>
              </p:nvGrpSpPr>
              <p:grpSpPr>
                <a:xfrm>
                  <a:off x="5410080" y="1704960"/>
                  <a:ext cx="3733920" cy="5153040"/>
                  <a:chOff x="5410080" y="1704960"/>
                  <a:chExt cx="3733920" cy="5153040"/>
                </a:xfrm>
              </p:grpSpPr>
              <p:grpSp>
                <p:nvGrpSpPr>
                  <p:cNvPr id="174" name="Group 26"/>
                  <p:cNvGrpSpPr/>
                  <p:nvPr/>
                </p:nvGrpSpPr>
                <p:grpSpPr>
                  <a:xfrm>
                    <a:off x="5410080" y="1704960"/>
                    <a:ext cx="3733920" cy="5153040"/>
                    <a:chOff x="5410080" y="1704960"/>
                    <a:chExt cx="3733920" cy="5153040"/>
                  </a:xfrm>
                </p:grpSpPr>
                <p:grpSp>
                  <p:nvGrpSpPr>
                    <p:cNvPr id="175" name="Group 25"/>
                    <p:cNvGrpSpPr/>
                    <p:nvPr/>
                  </p:nvGrpSpPr>
                  <p:grpSpPr>
                    <a:xfrm>
                      <a:off x="5410080" y="1704960"/>
                      <a:ext cx="3733920" cy="5153040"/>
                      <a:chOff x="5410080" y="1704960"/>
                      <a:chExt cx="3733920" cy="5153040"/>
                    </a:xfrm>
                  </p:grpSpPr>
                  <p:grpSp>
                    <p:nvGrpSpPr>
                      <p:cNvPr id="176" name="Group 24"/>
                      <p:cNvGrpSpPr/>
                      <p:nvPr/>
                    </p:nvGrpSpPr>
                    <p:grpSpPr>
                      <a:xfrm>
                        <a:off x="5410080" y="1704960"/>
                        <a:ext cx="3733920" cy="5153040"/>
                        <a:chOff x="5410080" y="1704960"/>
                        <a:chExt cx="3733920" cy="5153040"/>
                      </a:xfrm>
                    </p:grpSpPr>
                    <p:grpSp>
                      <p:nvGrpSpPr>
                        <p:cNvPr id="177" name="Group 23"/>
                        <p:cNvGrpSpPr/>
                        <p:nvPr/>
                      </p:nvGrpSpPr>
                      <p:grpSpPr>
                        <a:xfrm>
                          <a:off x="5410080" y="1704960"/>
                          <a:ext cx="3581640" cy="5153040"/>
                          <a:chOff x="5410080" y="1704960"/>
                          <a:chExt cx="3581640" cy="5153040"/>
                        </a:xfrm>
                      </p:grpSpPr>
                      <p:grpSp>
                        <p:nvGrpSpPr>
                          <p:cNvPr id="178" name="Group 22"/>
                          <p:cNvGrpSpPr/>
                          <p:nvPr/>
                        </p:nvGrpSpPr>
                        <p:grpSpPr>
                          <a:xfrm>
                            <a:off x="5410080" y="1704960"/>
                            <a:ext cx="3581640" cy="5153040"/>
                            <a:chOff x="5410080" y="1704960"/>
                            <a:chExt cx="3581640" cy="5153040"/>
                          </a:xfrm>
                        </p:grpSpPr>
                        <p:sp>
                          <p:nvSpPr>
                            <p:cNvPr id="179" name="Rectangle 2"/>
                            <p:cNvSpPr/>
                            <p:nvPr/>
                          </p:nvSpPr>
                          <p:spPr>
                            <a:xfrm>
                              <a:off x="6553080" y="1981080"/>
                              <a:ext cx="1905120" cy="307080"/>
                            </a:xfrm>
                            <a:prstGeom prst="rect">
                              <a:avLst/>
                            </a:prstGeom>
                            <a:solidFill>
                              <a:srgbClr val="ffead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Calibri"/>
                                </a:rPr>
                                <a:t>ДЕФИЦИТ ВОД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pic>
                          <p:nvPicPr>
                            <p:cNvPr id="180" name="Picture 3" descr=""/>
                            <p:cNvPicPr/>
                            <p:nvPr/>
                          </p:nvPicPr>
                          <p:blipFill>
                            <a:blip r:embed="rId1"/>
                            <a:stretch/>
                          </p:blipFill>
                          <p:spPr>
                            <a:xfrm>
                              <a:off x="5410080" y="1704960"/>
                              <a:ext cx="3581640" cy="515304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grpSp>
                      <p:sp>
                        <p:nvSpPr>
                          <p:cNvPr id="181" name="Rectangle 11"/>
                          <p:cNvSpPr/>
                          <p:nvPr/>
                        </p:nvSpPr>
                        <p:spPr>
                          <a:xfrm>
                            <a:off x="6629400" y="2666880"/>
                            <a:ext cx="1981440" cy="307080"/>
                          </a:xfrm>
                          <a:prstGeom prst="rect">
                            <a:avLst/>
                          </a:prstGeom>
                          <a:solidFill>
                            <a:srgbClr val="ffead5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sr-C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Calibri"/>
                              </a:rPr>
                              <a:t>ОСМОЛАЛНОСТ ЕЦТ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2" name="Rectangle 3"/>
                        <p:cNvSpPr/>
                        <p:nvPr/>
                      </p:nvSpPr>
                      <p:spPr>
                        <a:xfrm>
                          <a:off x="7467480" y="2972160"/>
                          <a:ext cx="167652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Calibri"/>
                            </a:rPr>
                            <a:t>осморецептори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Rectangle 14"/>
                      <p:cNvSpPr/>
                      <p:nvPr/>
                    </p:nvSpPr>
                    <p:spPr>
                      <a:xfrm>
                        <a:off x="6781680" y="3276360"/>
                        <a:ext cx="1447920" cy="474480"/>
                      </a:xfrm>
                      <a:prstGeom prst="rect">
                        <a:avLst/>
                      </a:prstGeom>
                      <a:solidFill>
                        <a:srgbClr val="ffead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Calibri"/>
                          </a:rPr>
                          <a:t>ADH секреција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Calibri"/>
                          </a:rPr>
                          <a:t> </a:t>
                        </a: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Calibri"/>
                          </a:rPr>
                          <a:t>(неурохипофиза)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4" name="Rectangle 17"/>
                    <p:cNvSpPr/>
                    <p:nvPr/>
                  </p:nvSpPr>
                  <p:spPr>
                    <a:xfrm>
                      <a:off x="6705360" y="4800600"/>
                      <a:ext cx="1828800" cy="600120"/>
                    </a:xfrm>
                    <a:prstGeom prst="rect">
                      <a:avLst/>
                    </a:prstGeom>
                    <a:solidFill>
                      <a:srgbClr val="ffead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еабилност за  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убул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Rectangle 19"/>
                  <p:cNvSpPr/>
                  <p:nvPr/>
                </p:nvSpPr>
                <p:spPr>
                  <a:xfrm>
                    <a:off x="6867000" y="5715000"/>
                    <a:ext cx="1549440" cy="336240"/>
                  </a:xfrm>
                  <a:prstGeom prst="rect">
                    <a:avLst/>
                  </a:prstGeom>
                  <a:solidFill>
                    <a:srgbClr val="ffead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реапсорбције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r>
                      <a:rPr b="0" lang="en-US" sz="1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" name="Rectangle 21"/>
                <p:cNvSpPr/>
                <p:nvPr/>
              </p:nvSpPr>
              <p:spPr>
                <a:xfrm>
                  <a:off x="6868440" y="6400800"/>
                  <a:ext cx="1253880" cy="345240"/>
                </a:xfrm>
                <a:prstGeom prst="rect">
                  <a:avLst/>
                </a:prstGeom>
                <a:solidFill>
                  <a:srgbClr val="ffea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Излучена H</a:t>
                  </a:r>
                  <a:r>
                    <a:rPr b="0" lang="en-US" sz="1400" spc="-1" strike="noStrike" baseline="-30000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2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Rectangle 16"/>
              <p:cNvSpPr/>
              <p:nvPr/>
            </p:nvSpPr>
            <p:spPr>
              <a:xfrm>
                <a:off x="7016760" y="4143240"/>
                <a:ext cx="1329840" cy="307080"/>
              </a:xfrm>
              <a:prstGeom prst="rect">
                <a:avLst/>
              </a:prstGeom>
              <a:solidFill>
                <a:srgbClr val="ffe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DH у плазми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30"/>
            <p:cNvSpPr/>
            <p:nvPr/>
          </p:nvSpPr>
          <p:spPr>
            <a:xfrm>
              <a:off x="6709320" y="1981080"/>
              <a:ext cx="1366560" cy="276480"/>
            </a:xfrm>
            <a:prstGeom prst="rect">
              <a:avLst/>
            </a:prstGeom>
            <a:solidFill>
              <a:srgbClr val="ffea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ЕФИЦИТ ВОД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880" y="1299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еђ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е дефинише као свесна жеља за водо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сти региони у централном нервном систему, који контролишу ослобађање ADH, контролишу 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нос течности механизмом жеђ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и тако оба ова механизма заједно регулишу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тав и запремину екстрацелуларне те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09480" y="457200"/>
            <a:ext cx="8153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O</a:t>
            </a: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сморецептор-</a:t>
            </a:r>
            <a:r>
              <a:rPr b="1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нтидиуретски хормон (ADH</a:t>
            </a: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) систем повратне спреге   и    </a:t>
            </a:r>
            <a:r>
              <a:rPr b="1" lang="sr-CS" sz="2600" spc="-1" strike="noStrike">
                <a:solidFill>
                  <a:srgbClr val="6c0000"/>
                </a:solidFill>
                <a:latin typeface="Times New Roman"/>
                <a:ea typeface="Calibri"/>
              </a:rPr>
              <a:t>механизам жеђ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146240" y="2895480"/>
            <a:ext cx="45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 жеђ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161480" cy="327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228600" y="576360"/>
            <a:ext cx="891540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РЕГУЛАЦИЈА САСТАВА И ЗАПРЕМИНЕ ЕКСТРАЦЕЛУЛАРНЕ ТЕ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    </a:t>
            </a:r>
            <a:r>
              <a:rPr b="1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нгиотензин </a:t>
            </a:r>
            <a:r>
              <a:rPr b="1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II</a:t>
            </a:r>
            <a:r>
              <a:rPr b="0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је снажан вазоконстриктор и један од најмоћнијих хормона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ржавање N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воде у тел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ме ш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ећа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њихову реапсорпцију у бубрез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тник: Ангиотензин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е синтетише у случај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ижења крвног притиска и/или смањења запремине екстрацелуларне течности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гиотенз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ише секреци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лдосте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ећава реапсорпцију N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вод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убрезим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 истовремен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цију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1" lang="sr-CS" sz="2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ри вишку овог хормона настаје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покалијемија)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нтидиуретског хормона</a:t>
            </a:r>
            <a:r>
              <a:rPr b="0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ећава реапсорпцију вод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убрезима</a:t>
            </a:r>
            <a:r>
              <a:rPr b="0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ји такође учествују у одржавању састава и запремине екстрацелуларне т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нуто, у случају повећања запремине екстрацелуларне течности повећава се секреција </a:t>
            </a:r>
            <a:r>
              <a:rPr b="1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тријумског натриуретског пептида (АNP</a:t>
            </a:r>
            <a:r>
              <a:rPr b="0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срцу, што последично доводи д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триурезе и диурез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380880" y="383400"/>
            <a:ext cx="83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УЛОГА БУБРЕГА У РЕГУЛАЦИЈИ АЦИДО-БАЗНЕ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1295280"/>
            <a:ext cx="914400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у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гулацији ацидо-базне равнотеже бубрези имају кључну улогу. Једини од свих система у организму, способни су да излуче вишак киселина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телесних течности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тих киселина у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 зависно од исхране, метаболизма или болести.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шу и ниво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арбонат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х јона (HC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елесним течностима, и то делом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пцијом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филтрата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nov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ом,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ак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ивањем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ко се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 у вишку у телесним течностим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функција бубрега у регулацији ацидо-базне равнотеже је веома значајна јер је неопходно да се р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телесних течности одржава у веома уским границама. Наиме,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скоро свих ензимских система у телу је под утицајем концентрације водоникових јона. Стога, било која промена у концентрације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ремети ћелијске функције, а тиме и  функционисање читавог организм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4952880"/>
            <a:ext cx="9144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Концентрација водоникових јона је ниска у организму (0.00004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mmol/L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0.00000004mol/L)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, и обично се изражава на логаритамској скали, коришћењем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јединице и </a:t>
            </a:r>
            <a:r>
              <a:rPr b="0" lang="sr-CS" sz="1900" spc="-1" strike="noStrike">
                <a:solidFill>
                  <a:srgbClr val="0000ff"/>
                </a:solidFill>
                <a:latin typeface="Times New Roman"/>
              </a:rPr>
              <a:t>износи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7.4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6c0000"/>
                </a:solidFill>
                <a:latin typeface="Times New Roman"/>
              </a:rPr>
              <a:t>Системи за контролу ацидобазне равноте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добазн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емијски)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пуферски систем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у телесним течностима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ва линија одбране, реагују у делићу секунде)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 не уклањај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организма, већ их само реверзибилно везују и на тај начин спречавају промене pH телесних течности. Најзначајниј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ски систе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арбонат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екстрацелуларно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с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трацелуларно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еритроцити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ач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рочито од значаја у самим бубрезим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Респирацијски сист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за контролу ацидобазне равнотеж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(друга линија одбране, реагује у току неколико минута, одговори се појављују у року од 3 до 10 минут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улише ацидо-базну равнотежу прилагођавањем плућне вентилације: смањена вентилација повећава концентрацију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организму и тиме се повећава ацидоза, док повећана вентилација делује обрнуто. Овај систем није у могућности да уклони вишак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организ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и сист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контролу ацидобазне равнотеж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рећа линија одбране од промена у ацидо-базној равнотежи, најмоћнији и најспорији систе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еме реаговања се мери сатима)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едини способан да уклони виша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ових јона из организма. Бубрези регулиш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телесних течности на тај начин што излучују киселу или базну мокраћ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 flipH="1">
            <a:off x="304920" y="444960"/>
            <a:ext cx="85341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мална физиолошка ацидо-базна хомеостаза значи настаје удруженим напорима два органа, плућа и бубрега, тако да ацидо-базни поремећаји настају када се један или оба контролна система ошт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брез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највећој мери регулишу концентрацију бикарбоната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поремећај који настаје због промена у концентрацији бикарбоната екстрацелуларне течности се означава као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болички ацидо-базни поремећај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(Ацидоза настала услед смањене концентрације бикарбоната биће метаболичка ацидоза, док ће алкалоза  проузрокована повећањем концентрације бикарбоната имати назив метаболичка алкалоза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ућ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гулишу концентрациј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телесним течностима подешавањем величине вентилације и поремећај који настаје због промена у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o</a:t>
            </a:r>
            <a:r>
              <a:rPr b="0" lang="sr-Latn-C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екстрацелуларне течности се означава као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спираторни ацидо-базни поремећај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(Ацидоза проузрокована порастом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o</a:t>
            </a:r>
            <a:r>
              <a:rPr b="0" lang="sr-Latn-C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је респираторна ацидоза, а алкалоза проузрокована снижавањем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o</a:t>
            </a:r>
            <a:r>
              <a:rPr b="0" lang="sr-Latn-C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е назива респираторна алкал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78480"/>
            <a:ext cx="9144000" cy="65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БРЕЖНА КОНТРОЛА АЦИДО-БАЗНЕ РАВНОТ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брез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ествују у регулацији ацидо-базне равнотеже 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тр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нцентраци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икарбонатних јон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екстрацелуларној течн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тр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нцентраци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оников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јо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екстрацелуларној течн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ем три механиз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цијом водоникових ј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псорпцијом филтрираних бикарбонатних јона;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тезом нових бикарбонатних ј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он филтрације плазме у гломерулским капиларима, у скоро свим деловима тубулског система врши се реапсорпц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CO</a:t>
            </a:r>
            <a:r>
              <a:rPr b="0" lang="sr-Latn-CS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секреција водоникових јона. Највећа реапсорпција бикарбоната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CO</a:t>
            </a:r>
            <a:r>
              <a:rPr b="0" lang="sr-Latn-CS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 и секреције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механизмо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ундарно активног контратранспор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упрот концентрационом градијенту од 3–4 пута) се дешава 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ксималн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убулима бубрега (80–90%). Тада се за сва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товани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апсорбу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CO</a:t>
            </a:r>
            <a:r>
              <a:rPr b="1" lang="sr-Latn-CS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вши од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талних тубула бубрег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завршни део) и надаље у сабирним тубулима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оникови јони се секретују механизмом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арно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г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ранспор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супрот концентрационом градијенту од чак 1.000 пута)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з апикалну мембран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калат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ћелиј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чему се за сва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товани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апсорбу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CO</a:t>
            </a:r>
            <a:r>
              <a:rPr b="1" lang="sr-Latn-CS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и, своју улогу у регулацији ацидо-базне равнотеже бубрези остварују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лучивањем киселе мокраћ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ада с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лазе у вишку у екстрацелуларној течности (ацидоза), и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лучивањем базне мокраћ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условима смањене концентрациј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трацелуларној теч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алкал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609480"/>
            <a:ext cx="373392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НЕФ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фро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основна функционалана јединица бубрега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 000 000 нефрона у једном бубрег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н 40. год., број функционалних нефрона се смањује за око 10% сваких 10 го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елови нефр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Гломеру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оз који се филтрира велика количина течности из крви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Тубулски сист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 којем се филтрирана течност претвара у мокраћ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81080" y="3049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ФУНКЦИОНАЛ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РФОЛОГ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D:\Users\Jovana Joksimovic\Desktop\Bubreg\Slika 2.jpg"/>
          <p:cNvPicPr/>
          <p:nvPr/>
        </p:nvPicPr>
        <p:blipFill>
          <a:blip r:embed="rId1"/>
          <a:stretch/>
        </p:blipFill>
        <p:spPr>
          <a:xfrm>
            <a:off x="3962520" y="1219320"/>
            <a:ext cx="4971960" cy="4952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7243560" y="5715000"/>
            <a:ext cx="61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609480" y="152280"/>
            <a:ext cx="7620120" cy="5616720"/>
            <a:chOff x="609480" y="152280"/>
            <a:chExt cx="7620120" cy="5616720"/>
          </a:xfrm>
        </p:grpSpPr>
        <p:grpSp>
          <p:nvGrpSpPr>
            <p:cNvPr id="201" name="Group 23"/>
            <p:cNvGrpSpPr/>
            <p:nvPr/>
          </p:nvGrpSpPr>
          <p:grpSpPr>
            <a:xfrm>
              <a:off x="609480" y="152280"/>
              <a:ext cx="7620120" cy="5616720"/>
              <a:chOff x="609480" y="152280"/>
              <a:chExt cx="7620120" cy="5616720"/>
            </a:xfrm>
          </p:grpSpPr>
          <p:grpSp>
            <p:nvGrpSpPr>
              <p:cNvPr id="202" name="Group 20"/>
              <p:cNvGrpSpPr/>
              <p:nvPr/>
            </p:nvGrpSpPr>
            <p:grpSpPr>
              <a:xfrm>
                <a:off x="609480" y="380880"/>
                <a:ext cx="7620120" cy="5388120"/>
                <a:chOff x="609480" y="380880"/>
                <a:chExt cx="7620120" cy="5388120"/>
              </a:xfrm>
            </p:grpSpPr>
            <p:grpSp>
              <p:nvGrpSpPr>
                <p:cNvPr id="203" name="Group 19"/>
                <p:cNvGrpSpPr/>
                <p:nvPr/>
              </p:nvGrpSpPr>
              <p:grpSpPr>
                <a:xfrm>
                  <a:off x="609480" y="380880"/>
                  <a:ext cx="7620120" cy="5388120"/>
                  <a:chOff x="609480" y="380880"/>
                  <a:chExt cx="7620120" cy="5388120"/>
                </a:xfrm>
              </p:grpSpPr>
              <p:grpSp>
                <p:nvGrpSpPr>
                  <p:cNvPr id="204" name="Group 18"/>
                  <p:cNvGrpSpPr/>
                  <p:nvPr/>
                </p:nvGrpSpPr>
                <p:grpSpPr>
                  <a:xfrm>
                    <a:off x="609480" y="380880"/>
                    <a:ext cx="7620120" cy="5388120"/>
                    <a:chOff x="609480" y="380880"/>
                    <a:chExt cx="7620120" cy="5388120"/>
                  </a:xfrm>
                </p:grpSpPr>
                <p:pic>
                  <p:nvPicPr>
                    <p:cNvPr id="205" name="Picture 5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609480" y="380880"/>
                      <a:ext cx="7620120" cy="538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206" name="Group 15"/>
                    <p:cNvGrpSpPr/>
                    <p:nvPr/>
                  </p:nvGrpSpPr>
                  <p:grpSpPr>
                    <a:xfrm>
                      <a:off x="2895480" y="609480"/>
                      <a:ext cx="533160" cy="779400"/>
                      <a:chOff x="2895480" y="609480"/>
                      <a:chExt cx="533160" cy="779400"/>
                    </a:xfrm>
                  </p:grpSpPr>
                  <p:sp>
                    <p:nvSpPr>
                      <p:cNvPr id="207" name="AutoShape 2"/>
                      <p:cNvSpPr/>
                      <p:nvPr/>
                    </p:nvSpPr>
                    <p:spPr>
                      <a:xfrm>
                        <a:off x="2971440" y="914040"/>
                        <a:ext cx="152280" cy="474840"/>
                      </a:xfrm>
                      <a:prstGeom prst="downArrow">
                        <a:avLst>
                          <a:gd name="adj1" fmla="val 50000"/>
                          <a:gd name="adj2" fmla="val 84682"/>
                        </a:avLst>
                      </a:prstGeom>
                      <a:solidFill>
                        <a:srgbClr val="89b0ff"/>
                      </a:solidFill>
                      <a:ln w="9360">
                        <a:solidFill>
                          <a:srgbClr val="0d71c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TextBox 11"/>
                      <p:cNvSpPr/>
                      <p:nvPr/>
                    </p:nvSpPr>
                    <p:spPr>
                      <a:xfrm>
                        <a:off x="2895480" y="609480"/>
                        <a:ext cx="5331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ff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800" spc="-1" strike="noStrike" baseline="30000">
                            <a:solidFill>
                              <a:srgbClr val="0000ff"/>
                            </a:solidFill>
                            <a:latin typeface="Arial"/>
                          </a:rPr>
                          <a:t>+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09" name="Group 16"/>
                  <p:cNvGrpSpPr/>
                  <p:nvPr/>
                </p:nvGrpSpPr>
                <p:grpSpPr>
                  <a:xfrm>
                    <a:off x="5181480" y="609480"/>
                    <a:ext cx="533160" cy="779400"/>
                    <a:chOff x="5181480" y="609480"/>
                    <a:chExt cx="533160" cy="779400"/>
                  </a:xfrm>
                </p:grpSpPr>
                <p:sp>
                  <p:nvSpPr>
                    <p:cNvPr id="210" name="AutoShape 2"/>
                    <p:cNvSpPr/>
                    <p:nvPr/>
                  </p:nvSpPr>
                  <p:spPr>
                    <a:xfrm>
                      <a:off x="5257440" y="914040"/>
                      <a:ext cx="152280" cy="474840"/>
                    </a:xfrm>
                    <a:prstGeom prst="downArrow">
                      <a:avLst>
                        <a:gd name="adj1" fmla="val 50000"/>
                        <a:gd name="adj2" fmla="val 84682"/>
                      </a:avLst>
                    </a:prstGeom>
                    <a:solidFill>
                      <a:srgbClr val="89b0ff"/>
                    </a:solidFill>
                    <a:ln w="9360">
                      <a:solidFill>
                        <a:srgbClr val="0d71c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TextBox 13"/>
                    <p:cNvSpPr/>
                    <p:nvPr/>
                  </p:nvSpPr>
                  <p:spPr>
                    <a:xfrm>
                      <a:off x="5181480" y="609480"/>
                      <a:ext cx="53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2" name="Group 17"/>
                <p:cNvGrpSpPr/>
                <p:nvPr/>
              </p:nvGrpSpPr>
              <p:grpSpPr>
                <a:xfrm>
                  <a:off x="6400800" y="1676160"/>
                  <a:ext cx="914400" cy="368280"/>
                  <a:chOff x="6400800" y="1676160"/>
                  <a:chExt cx="914400" cy="368280"/>
                </a:xfrm>
              </p:grpSpPr>
              <p:sp>
                <p:nvSpPr>
                  <p:cNvPr id="213" name="AutoShape 3"/>
                  <p:cNvSpPr/>
                  <p:nvPr/>
                </p:nvSpPr>
                <p:spPr>
                  <a:xfrm>
                    <a:off x="6400800" y="1828440"/>
                    <a:ext cx="457200" cy="152280"/>
                  </a:xfrm>
                  <a:prstGeom prst="leftArrow">
                    <a:avLst>
                      <a:gd name="adj1" fmla="val 50000"/>
                      <a:gd name="adj2" fmla="val 91294"/>
                    </a:avLst>
                  </a:prstGeom>
                  <a:solidFill>
                    <a:srgbClr val="89b0ff"/>
                  </a:solidFill>
                  <a:ln w="9360">
                    <a:solidFill>
                      <a:srgbClr val="0d71c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Box 14"/>
                  <p:cNvSpPr/>
                  <p:nvPr/>
                </p:nvSpPr>
                <p:spPr>
                  <a:xfrm>
                    <a:off x="6781680" y="1676160"/>
                    <a:ext cx="533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Arial"/>
                      </a:rPr>
                      <a:t>H</a:t>
                    </a:r>
                    <a:r>
                      <a:rPr b="1" lang="en-US" sz="1800" spc="-1" strike="noStrike" baseline="30000">
                        <a:solidFill>
                          <a:srgbClr val="0000ff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5" name="TextBox 21"/>
              <p:cNvSpPr/>
              <p:nvPr/>
            </p:nvSpPr>
            <p:spPr>
              <a:xfrm>
                <a:off x="2057040" y="152280"/>
                <a:ext cx="1981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секундарно активни контратранспорт H</a:t>
                </a:r>
                <a:r>
                  <a:rPr b="0" lang="en-US" sz="1200" spc="-1" strike="noStrike" baseline="30000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+ 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са Na</a:t>
                </a:r>
                <a:r>
                  <a:rPr b="0" lang="en-US" sz="1200" spc="-1" strike="noStrike" baseline="30000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Box 22"/>
            <p:cNvSpPr/>
            <p:nvPr/>
          </p:nvSpPr>
          <p:spPr>
            <a:xfrm>
              <a:off x="5105520" y="456840"/>
              <a:ext cx="259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примарно активни транспорт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2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+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4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пција бикарбонат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екреција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зличитим сегментима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их тубула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и су проценти филтрационог оптерећења бикарбоната које апсорбују различити тубулски сегменти и реапсорбован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/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под нормалним условима, означено 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рвеним стрелицам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вим стрелицам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ена је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вши од проксималног тубула (механизмо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о активног контратранспорта са 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дисталног тубула и надаље механизмом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о активног транспорт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5053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Гломерул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е састоји од мреже разгранатих, анастомозирајућих капилара који у поређењу са другим капиларним мрежама има висок хидростатски притисак (око 60 mmHg) и смештен је у B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man-овој капсул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аферентна артериола (крв улази у гломерул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еферентна артериола (крв излази из гломерул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8" descr="D:\Users\Jovana Joksimovic\Desktop\Bubreg\Slika 2.jpg"/>
          <p:cNvPicPr/>
          <p:nvPr/>
        </p:nvPicPr>
        <p:blipFill>
          <a:blip r:embed="rId1"/>
          <a:stretch/>
        </p:blipFill>
        <p:spPr>
          <a:xfrm>
            <a:off x="3962520" y="1219320"/>
            <a:ext cx="4971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37339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Тубулски систе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и тубу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Хенл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ва петљ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а. десцендентни (танки) сегмен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б. асцендентни (танки) сегмен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в. асцендентни (дебели) сегмент (на завр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етку одмах до проксималног дела дисталног тубула се налази macula dens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дистални тубу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сабирни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тубу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кортикални сабирни каналић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медуларни сабирни каналић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8" descr="D:\Users\Jovana Joksimovic\Desktop\Bubreg\Slika 2.jpg"/>
          <p:cNvPicPr/>
          <p:nvPr/>
        </p:nvPicPr>
        <p:blipFill>
          <a:blip r:embed="rId1"/>
          <a:stretch/>
        </p:blipFill>
        <p:spPr>
          <a:xfrm>
            <a:off x="3962520" y="1219320"/>
            <a:ext cx="4971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3887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Врсте нефрон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кортикални нефрони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(80%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, имају кратке Хенлеове петље које продиру само делимично у медулу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 у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стварањ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 мокраћ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јукстамедуларни нефрони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(20%), имају дуге Хенлеове петље које се протежу дубоко у медулу – функција: стварање и концентрисање мокраћ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- дугачки танки сегмент Хенлеове петљ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- vasa recta (специјализовани перитубулски капилари који се спуштају дубо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у медулу пратећи Хенлеову петљу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4706640" cy="54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Екскрециј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излуч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мокраћни канали) мокраће у бубрежном систе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је резултат три бубрежна проце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филтрациј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гломеру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реапсорп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тубул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секре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тубул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06920" y="6019920"/>
            <a:ext cx="90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a2"/>
                </a:solidFill>
                <a:latin typeface="Times New Roman"/>
              </a:rPr>
              <a:t>Уринарна е</a:t>
            </a:r>
            <a:r>
              <a:rPr b="0" lang="sr-Latn-CS" sz="2600" spc="-1" strike="noStrike">
                <a:solidFill>
                  <a:srgbClr val="0000a2"/>
                </a:solidFill>
                <a:latin typeface="Times New Roman"/>
              </a:rPr>
              <a:t>кскреција</a:t>
            </a:r>
            <a:r>
              <a:rPr b="0" lang="ru-RU" sz="2600" spc="-1" strike="noStrike">
                <a:solidFill>
                  <a:srgbClr val="0000a2"/>
                </a:solidFill>
                <a:latin typeface="Times New Roman"/>
              </a:rPr>
              <a:t> = филтрација – реапсорпција + секре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105080" cy="4654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НОВНЕ КОМПОНЕНТЕ БУБРЕЖНЕ ФУН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24000" y="6922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ломерулс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филтрациј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ва фаза стварања мок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80880" y="44197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ормалним, физиолошким условима брзи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омерулске филтрације код одрасле особе износи о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ml/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oк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литара на д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213372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 мокраће почиње процесом гломерулске филтрације, филтрирањем плазме кроз гломерулске капиларе у Боуманову капсулу. Већина супстанци, осим протеина, из плазме пролази кроз фенестриране капиларе, тако да је њихова концентрација у гломерулском филтрату приближно иста као у плаз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7:57:18Z</dcterms:created>
  <dc:creator>PC HOME</dc:creator>
  <dc:description/>
  <dc:language>en-US</dc:language>
  <cp:lastModifiedBy>Suzana Pantovic</cp:lastModifiedBy>
  <dcterms:modified xsi:type="dcterms:W3CDTF">2021-11-14T17:29:24Z</dcterms:modified>
  <cp:revision>169</cp:revision>
  <dc:subject/>
  <dc:title>Slide 1</dc:title>
</cp:coreProperties>
</file>